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1C2-62C3-4847-9634-6BB470EA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3C2-26F8-408F-B139-C9A63B61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2CF-F357-4A86-9F10-D777DF71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0ED-9CA8-413D-8102-C79FFE4D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3AA-3C67-4EBF-A025-CB5CA02A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AD6-3F4F-4571-8EC4-2F4EF8F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B74-BB94-4D59-8493-94B37EB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23D-7FF0-4D0B-A92D-33D70293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2EC-5403-4DAD-9365-14CF671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B47-AD08-46F2-BD5A-436D406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62A-ED1D-4209-B48D-3020296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0BA-51BA-4641-AE4F-3F9B4D26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609-26CC-4EA9-9CE8-EC2D335312F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3 Psychological Theories About Social Change (Part 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61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we can free ourselves from this old-style thinking we can bring a new energy to our personal relation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e thinks that there is some place where psychology and religion meet, and where religion becomes more essential than psyc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raham Maslow (1908-197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51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036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we have satisfied the need at one level, rather than becoming satisfied overall, we tend to move on and try to satisfy the need at the next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lf-Actualization: people who are able to dedicate themselves to serving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believe that all humans share common 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424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s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dustrial Psychology greatest 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anging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ising morale among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9640" y="1695600"/>
            <a:ext cx="8569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rites about relationships between women &amp; men and science &amp; fa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e writes that all adults have been brought up in a patriarchal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fore their attitudes about families and society are out of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ion Wood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man believes that women and men should free themselves from patriarchal thinking before their personal relationships can be fulfilling and before people can change the nature of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20:11:28Z</dcterms:created>
  <dc:creator>Jason</dc:creator>
  <dc:description/>
  <dc:language>en-US</dc:language>
  <cp:lastModifiedBy>Jason</cp:lastModifiedBy>
  <dcterms:modified xsi:type="dcterms:W3CDTF">2010-10-01T13:00:12Z</dcterms:modified>
  <cp:revision>5</cp:revision>
  <dc:subject/>
  <dc:title>PowerPoint Presentation</dc:title>
</cp:coreProperties>
</file>